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81A-843C-4ACD-B93A-626C5C0F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CA0-55EE-48AA-A563-0A91151E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182-D694-4803-80B8-A93264AF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642-0291-42B7-BA8C-E8D3A9C7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0484-8E53-47B2-9846-21EAC84D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E6E2-781C-4D30-8410-0B14972B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5E94-C713-44E4-95F6-A68E9242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E842-68A8-4B43-9FDD-9B308859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ED43-A99A-4CA0-B16B-6C39E87F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F8E3-63CD-4E90-9B47-E02D3CE5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D50F-3724-4CB5-AA53-9287A149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288-5B36-455C-8109-B04909AD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C2E0-E8E0-4C64-97FE-365A5011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3F25-73EF-46B3-9130-1DF70C74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636F-190D-4AAB-B143-2C2277CE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C0C9-D69A-41D5-B2DF-C164D09D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F0EF-01E7-482B-BCB4-345B215B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BE074-6B70-4876-BFD6-8007F645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10118-7250-4BF2-A34C-9A8A75EB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BA023-D6CF-43D9-869E-AB8F4D8D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ADA9C-6A9E-4E77-9412-6C44BD47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914B8-637F-49B6-B9B7-84E610AD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D6B-6923-47FA-98D3-B470FE3B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895BE-025D-4BF4-A994-D80B82ED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677EB-3A49-494A-80E7-5445F61E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4F64-C158-413B-939E-4139289D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B6948-C576-458A-BCEA-C6C60AC6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D67B2-E29F-4FCE-8BAA-DDC1D97A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1B7FC-4D08-4A68-B472-85C6D8B9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BF1E-1FDB-441F-B739-361EB710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44556-82D2-49F9-AA2B-53AC6E3A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62572-9126-4558-944E-E405DDF3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1D364-0B4B-4683-ABDA-5D20045D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EF1-080D-4703-9A7C-E3F44C43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1553D-49A8-4919-B4C8-4E61203D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265D9-6245-4748-A1E3-A143C853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B3BB1-F2B8-4484-A55A-0EF4D504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71770-D764-40D2-8CA3-B0A37AA0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3EE4C-C051-4654-A815-0F819788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E5388-B41B-41A0-AB26-9560754D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B0D2E-D02E-4003-AB62-D3CAFC6E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DEAD9-3B5F-4F3E-8612-C3CC950F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24A88-066F-4A47-B1A4-452D1081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C5FB6-94C2-4D4F-B153-D2FAD30B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BA9-57CB-4E05-ABB8-C5DF93AD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C03CB-5784-4CC6-A269-CA574EB1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3CDEF-ADE0-43AD-8C22-C927F5CF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B2316-ED35-4325-BA60-9F3D5B82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34A76-6E63-4143-AFA2-011E3F7B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22112-35AF-4D7B-A655-C0F75A0F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7F773-A4F1-408B-B8B2-5FD38520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E182B-1F17-42F4-9EAD-8FBF5371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3A26C-5472-4A56-BBE3-1319669B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29EF6-AB12-4F9D-A567-D5FD2A0F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4F874-E9FC-48A1-A2B1-26F2BB50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F4D-D10B-42C5-A8B7-2395D31C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635DB-03C7-44D8-9E25-EC63D81D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2A2-6C3B-4FA2-B901-A452A30C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BDE-6135-441D-ABFC-9EF6246A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338-7E69-4F49-ABAB-FAB598C8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52C9-E73F-4D90-8355-2BD11198328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4B2D-EED4-41A0-81B0-53DB3B71235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9C99-6D2C-4879-BB20-4BAC1E1682E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07D1-021D-4DC8-A22A-5D54412C2FF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ec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cce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8cdd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8cdd7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AC69-5DDA-441C-9113-49BA165A83C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76a55"/>
                </a:solidFill>
                <a:latin typeface="Perpetua"/>
              </a:rPr>
              <a:t>Makin</a:t>
            </a:r>
            <a:r>
              <a:rPr b="0" lang="ja-JP" sz="2600" spc="-1" strike="noStrike">
                <a:solidFill>
                  <a:srgbClr val="676a55"/>
                </a:solidFill>
                <a:latin typeface="Perpetua"/>
              </a:rPr>
              <a:t>’</a:t>
            </a:r>
            <a:r>
              <a:rPr b="0" lang="en-US" sz="2600" spc="-1" strike="noStrike">
                <a:solidFill>
                  <a:srgbClr val="676a55"/>
                </a:solidFill>
                <a:latin typeface="Perpetua"/>
              </a:rPr>
              <a:t> somethin</a:t>
            </a:r>
            <a:r>
              <a:rPr b="0" lang="ja-JP" sz="2600" spc="-1" strike="noStrike">
                <a:solidFill>
                  <a:srgbClr val="676a55"/>
                </a:solidFill>
                <a:latin typeface="Perpetua"/>
              </a:rPr>
              <a:t>’</a:t>
            </a:r>
            <a:r>
              <a:rPr b="0" lang="en-US" sz="2600" spc="-1" strike="noStrike">
                <a:solidFill>
                  <a:srgbClr val="676a55"/>
                </a:solidFill>
                <a:latin typeface="Perpetua"/>
              </a:rPr>
              <a:t> out a somethin</a:t>
            </a:r>
            <a:r>
              <a:rPr b="0" lang="ja-JP" sz="2600" spc="-1" strike="noStrike">
                <a:solidFill>
                  <a:srgbClr val="676a55"/>
                </a:solidFill>
                <a:latin typeface="Perpetua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Synthesis!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Other Examples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49" name="Picture 6" descr="broccoflower.jpg"/>
          <p:cNvPicPr/>
          <p:nvPr/>
        </p:nvPicPr>
        <p:blipFill>
          <a:blip r:embed="rId1"/>
          <a:stretch/>
        </p:blipFill>
        <p:spPr>
          <a:xfrm>
            <a:off x="3578400" y="3998880"/>
            <a:ext cx="3127320" cy="2846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black-labradoodle.jpg"/>
          <p:cNvPicPr/>
          <p:nvPr/>
        </p:nvPicPr>
        <p:blipFill>
          <a:blip r:embed="rId2"/>
          <a:stretch/>
        </p:blipFill>
        <p:spPr>
          <a:xfrm>
            <a:off x="4797360" y="914400"/>
            <a:ext cx="2511360" cy="3432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Snurfer-RS.jpg"/>
          <p:cNvPicPr/>
          <p:nvPr/>
        </p:nvPicPr>
        <p:blipFill>
          <a:blip r:embed="rId3"/>
          <a:stretch/>
        </p:blipFill>
        <p:spPr>
          <a:xfrm>
            <a:off x="6626160" y="3578400"/>
            <a:ext cx="2116080" cy="2232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alan_repack1.jpg"/>
          <p:cNvPicPr/>
          <p:nvPr/>
        </p:nvPicPr>
        <p:blipFill>
          <a:blip r:embed="rId4"/>
          <a:stretch/>
        </p:blipFill>
        <p:spPr>
          <a:xfrm>
            <a:off x="835200" y="1676520"/>
            <a:ext cx="34318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HOW do I Synthesize?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xamin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LL evidence you are give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 sure you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understand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hat evid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b0ccb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f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b0ccb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erpre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b0ccb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ink about the SOAPSTone elem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cce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specially TONE and PURPOS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ink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– what can I create from these piece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5" name="Picture 1" descr="spork-sul-L.jpg"/>
          <p:cNvPicPr/>
          <p:nvPr/>
        </p:nvPicPr>
        <p:blipFill>
          <a:blip r:embed="rId1"/>
          <a:stretch/>
        </p:blipFill>
        <p:spPr>
          <a:xfrm>
            <a:off x="6095880" y="1901880"/>
            <a:ext cx="274320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In School….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often…usually….all the time takes the following form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ook at a bunch of documen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gure out what they mean and are say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e a response, essay, lab report, etc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8" name="Diagram 1" descr=""/>
          <p:cNvPicPr/>
          <p:nvPr/>
        </p:nvPicPr>
        <p:blipFill>
          <a:blip r:embed="rId1"/>
          <a:stretch/>
        </p:blipFill>
        <p:spPr>
          <a:xfrm>
            <a:off x="4876920" y="3352680"/>
            <a:ext cx="51084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But…Let’s Slow Down!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w do you decide which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movi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o go to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w do you decide which latest greatest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ech thingy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 buy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w do you decide which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outfi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o wear on the first dat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You ask a bunch of people their opinions, weigh those comments, and make a decision!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1" name="Picture 1" descr="The-Hunger-Games-fanmade-movie-poster-Katniss-Everdeen-the-hunger-games-movie-22637851-884-1280.jpg"/>
          <p:cNvPicPr/>
          <p:nvPr/>
        </p:nvPicPr>
        <p:blipFill>
          <a:blip r:embed="rId1"/>
          <a:stretch/>
        </p:blipFill>
        <p:spPr>
          <a:xfrm>
            <a:off x="7669080" y="73080"/>
            <a:ext cx="1109880" cy="1603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220px-Mobile_phone_evolution.jpg"/>
          <p:cNvPicPr/>
          <p:nvPr/>
        </p:nvPicPr>
        <p:blipFill>
          <a:blip r:embed="rId2"/>
          <a:stretch/>
        </p:blipFill>
        <p:spPr>
          <a:xfrm>
            <a:off x="6473880" y="304920"/>
            <a:ext cx="1176120" cy="1755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images-2.jpeg"/>
          <p:cNvPicPr/>
          <p:nvPr/>
        </p:nvPicPr>
        <p:blipFill>
          <a:blip r:embed="rId3"/>
          <a:stretch/>
        </p:blipFill>
        <p:spPr>
          <a:xfrm>
            <a:off x="7236000" y="1523880"/>
            <a:ext cx="177480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You…have…synthesized!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ou have taken many “texts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ou have examined the credibility of thos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ou have created something new….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a decis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6" name="Picture 3" descr="spork-sul-L.jpg"/>
          <p:cNvPicPr/>
          <p:nvPr/>
        </p:nvPicPr>
        <p:blipFill>
          <a:blip r:embed="rId1"/>
          <a:stretch/>
        </p:blipFill>
        <p:spPr>
          <a:xfrm>
            <a:off x="5638680" y="39625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Now…let’s practice!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Document A </a:t>
            </a:r>
            <a:br>
              <a:rPr sz="3600"/>
            </a:b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What is it saying?</a:t>
            </a:r>
            <a:endParaRPr b="0" lang="en-US" sz="36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70" name="Content Placeholder 3" descr="warming 1.png"/>
          <p:cNvPicPr/>
          <p:nvPr/>
        </p:nvPicPr>
        <p:blipFill>
          <a:blip r:embed="rId1"/>
          <a:stretch/>
        </p:blipFill>
        <p:spPr>
          <a:xfrm>
            <a:off x="2895480" y="230508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Document B</a:t>
            </a:r>
            <a:br>
              <a:rPr sz="3600"/>
            </a:b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What is it saying?</a:t>
            </a:r>
            <a:endParaRPr b="0" lang="en-US" sz="36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72" name="Content Placeholder 3" descr="warming 2.jpg"/>
          <p:cNvPicPr/>
          <p:nvPr/>
        </p:nvPicPr>
        <p:blipFill>
          <a:blip r:embed="rId1"/>
          <a:stretch/>
        </p:blipFill>
        <p:spPr>
          <a:xfrm>
            <a:off x="1446120" y="1703520"/>
            <a:ext cx="586908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Compose a response with the information you have been given</a:t>
            </a:r>
            <a:endParaRPr b="0" lang="en-US" sz="36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member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pic sen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velopment x3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 documents don</a:t>
            </a:r>
            <a:r>
              <a:rPr b="0" lang="ja-JP" sz="2400" spc="-1" strike="noStrike">
                <a:solidFill>
                  <a:srgbClr val="000000"/>
                </a:solidFill>
                <a:latin typeface="Perpetu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 HAVE to be us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n you do, cite the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…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(Document A).  This shows that ………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a55"/>
                </a:solidFill>
                <a:latin typeface="Franklin Gothic Book"/>
              </a:rPr>
              <a:t>But….how do we incorporate other parts to this issue?</a:t>
            </a:r>
            <a:endParaRPr b="0" lang="en-US" sz="32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Definition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To take individual items and make a new product out of them.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For example….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Document C</a:t>
            </a:r>
            <a:br>
              <a:rPr sz="3600"/>
            </a:b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What is it saying?</a:t>
            </a:r>
            <a:endParaRPr b="0" lang="en-US" sz="36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78" name="Content Placeholder 3" descr="warming against 1.jpg"/>
          <p:cNvPicPr/>
          <p:nvPr/>
        </p:nvPicPr>
        <p:blipFill>
          <a:blip r:embed="rId1"/>
          <a:stretch/>
        </p:blipFill>
        <p:spPr>
          <a:xfrm>
            <a:off x="2419200" y="1886040"/>
            <a:ext cx="47628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Document D</a:t>
            </a:r>
            <a:br>
              <a:rPr sz="3600"/>
            </a:b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What is it saying?</a:t>
            </a:r>
            <a:endParaRPr b="0" lang="en-US" sz="36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80" name="Content Placeholder 3" descr="anti 2.jpg"/>
          <p:cNvPicPr/>
          <p:nvPr/>
        </p:nvPicPr>
        <p:blipFill>
          <a:blip r:embed="rId1"/>
          <a:stretch/>
        </p:blipFill>
        <p:spPr>
          <a:xfrm>
            <a:off x="1828800" y="1752480"/>
            <a:ext cx="5410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Hmmm….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w must you adjust your paragraph to account for these last two cartoon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on</a:t>
            </a:r>
            <a:r>
              <a:rPr b="0" lang="ja-JP" sz="2600" spc="-1" strike="noStrike">
                <a:solidFill>
                  <a:srgbClr val="000000"/>
                </a:solidFill>
                <a:latin typeface="Perpetu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 these point to the </a:t>
            </a:r>
            <a:r>
              <a:rPr b="0" lang="ja-JP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ther side</a:t>
            </a:r>
            <a:r>
              <a:rPr b="0" lang="ja-JP" sz="2600" spc="-1" strike="noStrike">
                <a:solidFill>
                  <a:srgbClr val="000000"/>
                </a:solidFill>
                <a:latin typeface="Perpetua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f the argument?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o you get to just ignore them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o you HAVE to include at least a mention of them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Yes….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ou must mention the </a:t>
            </a:r>
            <a:r>
              <a:rPr b="0" lang="ja-JP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ther side</a:t>
            </a:r>
            <a:r>
              <a:rPr b="0" lang="ja-JP" sz="2600" spc="-1" strike="noStrike">
                <a:solidFill>
                  <a:srgbClr val="000000"/>
                </a:solidFill>
                <a:latin typeface="Perpetua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 your paragraph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ke sure your topic sentence is strong enough to support BOTH sid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 sure to be clear about how the cartoons prove what you say they prov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76a55"/>
                </a:solidFill>
                <a:latin typeface="Franklin Gothic Book"/>
              </a:rPr>
              <a:t>Mr. and Mrs. Smith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86" name="MR_MRS_SMITH_WS_Chapter_07_01_20.mov" descr="/Volumes/A STUDIES 2/American Studies/Literary Terms and Lessons/Synthesis/MR_MRS_SMITH_WS_Chapter_07_01_20.mov"/>
          <p:cNvPicPr/>
          <p:nvPr/>
        </p:nvPicPr>
        <p:blipFill>
          <a:blip r:embed="rId1"/>
          <a:stretch/>
        </p:blipFill>
        <p:spPr>
          <a:xfrm>
            <a:off x="1523880" y="160020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86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Compose a new paragraph that includes the 2 new documents!</a:t>
            </a:r>
            <a:endParaRPr b="0" lang="en-US" sz="36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Primary Colors!!!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33" name="Content Placeholder 3" descr="color-wheel-primary-colors.jpg"/>
          <p:cNvPicPr/>
          <p:nvPr/>
        </p:nvPicPr>
        <p:blipFill>
          <a:blip r:embed="rId1"/>
          <a:stretch/>
        </p:blipFill>
        <p:spPr>
          <a:xfrm>
            <a:off x="1981080" y="1444680"/>
            <a:ext cx="50292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Secondary Colors !!!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35" name="Content Placeholder 3" descr="secondary.jpg"/>
          <p:cNvPicPr/>
          <p:nvPr/>
        </p:nvPicPr>
        <p:blipFill>
          <a:blip r:embed="rId1"/>
          <a:stretch/>
        </p:blipFill>
        <p:spPr>
          <a:xfrm>
            <a:off x="1828800" y="1273320"/>
            <a:ext cx="53341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Tertiary Colors !!!  </a:t>
            </a:r>
            <a:r>
              <a:rPr b="0" lang="en-US" sz="2400" spc="-1" strike="noStrike">
                <a:solidFill>
                  <a:srgbClr val="676a55"/>
                </a:solidFill>
                <a:latin typeface="Franklin Gothic Book"/>
              </a:rPr>
              <a:t>(who knew?)</a:t>
            </a:r>
            <a:endParaRPr b="0" lang="en-US" sz="24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37" name="Content Placeholder 3" descr="tertiary.jpg"/>
          <p:cNvPicPr/>
          <p:nvPr/>
        </p:nvPicPr>
        <p:blipFill>
          <a:blip r:embed="rId1"/>
          <a:stretch/>
        </p:blipFill>
        <p:spPr>
          <a:xfrm>
            <a:off x="1828800" y="1500120"/>
            <a:ext cx="5105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Gasoline Powered Engine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39" name="Content Placeholder 3" descr="gas car.jpg"/>
          <p:cNvPicPr/>
          <p:nvPr/>
        </p:nvPicPr>
        <p:blipFill>
          <a:blip r:embed="rId1"/>
          <a:stretch/>
        </p:blipFill>
        <p:spPr>
          <a:xfrm>
            <a:off x="2057400" y="1509840"/>
            <a:ext cx="5181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Electric Powered Engine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41" name="Content Placeholder 3" descr="electric car.jpg"/>
          <p:cNvPicPr/>
          <p:nvPr/>
        </p:nvPicPr>
        <p:blipFill>
          <a:blip r:embed="rId1"/>
          <a:stretch/>
        </p:blipFill>
        <p:spPr>
          <a:xfrm>
            <a:off x="1371600" y="1676520"/>
            <a:ext cx="631188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Franklin Gothic Book"/>
              </a:rPr>
              <a:t>Synthesize (Think) and What do We Create?</a:t>
            </a:r>
            <a:endParaRPr b="0" lang="en-US" sz="3600" spc="-1" strike="noStrike">
              <a:solidFill>
                <a:srgbClr val="676a55"/>
              </a:solidFill>
              <a:latin typeface="Franklin Gothic Book"/>
            </a:endParaRPr>
          </a:p>
        </p:txBody>
      </p:sp>
      <p:pic>
        <p:nvPicPr>
          <p:cNvPr id="243" name="Content Placeholder 3" descr="26Prius-illo_L_700.jpg"/>
          <p:cNvPicPr/>
          <p:nvPr/>
        </p:nvPicPr>
        <p:blipFill>
          <a:blip r:embed="rId1"/>
          <a:stretch/>
        </p:blipFill>
        <p:spPr>
          <a:xfrm>
            <a:off x="1467000" y="1533600"/>
            <a:ext cx="6667200" cy="44006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6172200" y="6248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yota Pr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Franklin Gothic Book"/>
              </a:rPr>
              <a:t>Photosynthesis</a:t>
            </a:r>
            <a:endParaRPr b="0" lang="en-US" sz="4000" spc="-1" strike="noStrike">
              <a:solidFill>
                <a:srgbClr val="676a55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is it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two items are needed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ight (phot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hlorophyl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</a:t>
            </a:r>
            <a:r>
              <a:rPr b="0" lang="ja-JP" sz="2600" spc="-1" strike="noStrike">
                <a:solidFill>
                  <a:srgbClr val="000000"/>
                </a:solidFill>
                <a:latin typeface="Perpetu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 created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b0cc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nergy for the plant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Picture 3" descr="photosynthesis.jpg"/>
          <p:cNvPicPr/>
          <p:nvPr/>
        </p:nvPicPr>
        <p:blipFill>
          <a:blip r:embed="rId1"/>
          <a:stretch/>
        </p:blipFill>
        <p:spPr>
          <a:xfrm>
            <a:off x="4876920" y="28195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6:16:53Z</dcterms:created>
  <dc:creator>.</dc:creator>
  <dc:description/>
  <dc:language>en-US</dc:language>
  <cp:lastModifiedBy>Chris Warner</cp:lastModifiedBy>
  <dcterms:modified xsi:type="dcterms:W3CDTF">2013-09-02T03:52:12Z</dcterms:modified>
  <cp:revision>18</cp:revision>
  <dc:subject/>
  <dc:title>Synthesis!</dc:title>
</cp:coreProperties>
</file>